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56258"/>
        <c:axId val="46547839"/>
      </c:barChart>
      <c:catAx>
        <c:axId val="30256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47839"/>
        <c:crosses val="autoZero"/>
        <c:auto val="1"/>
        <c:lblAlgn val="ctr"/>
        <c:lblOffset val="100"/>
        <c:noMultiLvlLbl val="0"/>
      </c:catAx>
      <c:valAx>
        <c:axId val="46547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6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B71-7082-468C-8315-202AE26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54A-1BC2-441A-8AD9-7C2AB16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BF0-FD30-48CD-9815-B046DF43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D30-948B-46C9-86A5-E9F93381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45F-E6E7-4893-A433-B9B0309B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BD9-47E9-4B05-8E26-66A9441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793-4503-4767-9EE9-E33886F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23D-59AE-47BA-9F57-642DFB5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04D-9827-4263-B2A2-86CB0FB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DEB-93A9-44AD-8F34-34B9D55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E93-946A-45DF-B38C-070939C2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0EA-FEC4-4D7F-B9F3-6EB2C0E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0AA0-0E4E-47B5-8F8D-967198550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