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274745"/>
        <c:axId val="49240833"/>
      </c:barChart>
      <c:catAx>
        <c:axId val="232747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240833"/>
        <c:crosses val="autoZero"/>
        <c:auto val="1"/>
        <c:lblAlgn val="ctr"/>
        <c:lblOffset val="100"/>
        <c:noMultiLvlLbl val="0"/>
      </c:catAx>
      <c:valAx>
        <c:axId val="492408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2747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056E-0A0E-4F95-BA6E-AC394A8D4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2A38-3A5A-40F2-B930-5003801F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D268-93FF-4279-A00B-264358841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500F-D68A-4892-8040-AD82C68D1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663B-A038-41F7-8FF1-160BF9BA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F1B0-0411-4B8A-BEC8-8F5A23CC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A8B2-AF0F-4D37-A928-599E5AE5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D82C-CE64-477B-B09E-F658E2E1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8EC8-A08F-45C1-B78C-63A78D2E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4272-8B46-48EE-A78E-F203C98C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F230-41B4-4C48-A767-AD29A38F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7DE0-4CF5-4048-9F05-70E038F1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3797CD-4833-4F60-B38B-35B3046A3B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