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56359"/>
        <c:axId val="21614436"/>
      </c:barChart>
      <c:catAx>
        <c:axId val="55156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14436"/>
        <c:crosses val="autoZero"/>
        <c:auto val="1"/>
        <c:lblAlgn val="ctr"/>
        <c:lblOffset val="100"/>
        <c:noMultiLvlLbl val="0"/>
      </c:catAx>
      <c:valAx>
        <c:axId val="21614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6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A85-E5EA-4C59-968E-CF1E7428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6C1-1976-4670-A5E1-4483928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C22-60EE-4C9B-8442-E1626624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290-1CAE-4297-9744-4ADB61B4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DF4-D1E1-4127-B274-8E7FACDF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41F-0054-4519-9467-E7DC83D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D9E-FEE6-4584-8985-09EF95C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64F-262A-4F9C-A485-F829E263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6FD-8583-427E-BFA0-BCFD47E5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A1B-84C7-4F62-8138-8CA4F5A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FE2-84EA-40CD-8D1D-40F4F96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8FD-C0FA-44B8-94CE-510DA60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859D-037C-45B7-86B5-AB4187FD47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