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88551"/>
        <c:axId val="97993165"/>
      </c:barChart>
      <c:catAx>
        <c:axId val="83788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93165"/>
        <c:crosses val="autoZero"/>
        <c:auto val="1"/>
        <c:lblAlgn val="ctr"/>
        <c:lblOffset val="100"/>
        <c:noMultiLvlLbl val="0"/>
      </c:catAx>
      <c:valAx>
        <c:axId val="97993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8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03B-A967-4F21-8827-37C542DB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EBC-A24A-40AD-9E64-F118D657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E68-F39F-4A2B-96CB-F8BFC199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40E-CD01-468F-B3E6-4349FDA4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935-E88A-40D0-AE91-C7591760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50E-F765-4417-9A3C-6A8A2D00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851-AFC0-4065-8D0C-4BB4836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5CF-0B53-4458-A765-08EA1A9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A5B-202F-43B3-9F5F-33D0B508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EAB-18A4-4BC8-A0AA-A491EAE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815-48AB-4D42-9DC1-EAB20D7B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8D7-9E25-455E-A104-7848E99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DFAF3-B644-471E-B3D8-963DE1F514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