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82468"/>
        <c:axId val="66559414"/>
      </c:barChart>
      <c:catAx>
        <c:axId val="9082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59414"/>
        <c:crosses val="autoZero"/>
        <c:auto val="1"/>
        <c:lblAlgn val="ctr"/>
        <c:lblOffset val="100"/>
        <c:noMultiLvlLbl val="0"/>
      </c:catAx>
      <c:valAx>
        <c:axId val="665594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2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D529-1F41-44E4-9776-9CE78401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7B27-2576-49A5-8181-0F04E1C2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227A-2171-4A72-8367-CDA5019B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2D0F-9DC1-4F9B-A29A-E23D79B2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F23-C0C3-4ADB-B53E-E9C713B2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628-0F42-43C6-A97A-3515FE5E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24B-A7E2-4BC2-BF28-BDCD5E2C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FECC-E70D-4D8B-8949-64D7641C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631C-A3E2-472E-94F3-7EFF98EB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45CC-D698-4BAA-8F59-6E8BD92D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EFF6-8D66-4017-9051-C85D8F4A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B9D1-7CDE-4417-8A9E-73777D0E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22DAD-6124-4BF1-B91F-522EF31E57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