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34554"/>
        <c:axId val="46079922"/>
      </c:barChart>
      <c:catAx>
        <c:axId val="42634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79922"/>
        <c:crosses val="autoZero"/>
        <c:auto val="1"/>
        <c:lblAlgn val="ctr"/>
        <c:lblOffset val="100"/>
        <c:noMultiLvlLbl val="0"/>
      </c:catAx>
      <c:valAx>
        <c:axId val="46079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34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407-1930-4A2E-925F-6124F913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8C2-B355-45AA-987F-7046019F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74B-817A-4BD4-BAC3-9E94C4E9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536-6317-4C09-BF9B-376CF155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E63-1173-4AE8-B0A3-71BCAD08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777-DEFF-4788-8AB6-481A1FE7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0F7-A956-47E9-8855-F2F18BE2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1C2-7FFB-4440-9495-3F05DBDC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99D-FA6A-40E5-8D47-9C45FA42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A5C-B142-48E3-B1C8-3FA69B76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BE5-3FC4-4D91-B909-B1B7AA08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898-030E-495E-8D33-24D5536A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C9934-8D3D-46C2-93A5-C97564619E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