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9606388"/>
        <c:axId val="52463680"/>
      </c:barChart>
      <c:catAx>
        <c:axId val="996063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463680"/>
        <c:crosses val="autoZero"/>
        <c:auto val="1"/>
        <c:lblAlgn val="ctr"/>
        <c:lblOffset val="100"/>
        <c:noMultiLvlLbl val="0"/>
      </c:catAx>
      <c:valAx>
        <c:axId val="524636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6063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3BAD-41B0-4ADA-A96D-108F49E34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02FE-2DC5-412C-9564-95551F3E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187C-5B16-447A-9E69-F9B959502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42653-DA59-4D5B-ACE9-D9C612A69A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B2E5-749E-4E28-A0A6-72D6CAEFC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8D7A-894C-4A47-9627-A4B5F866A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E6E31-22EC-4E7B-84FB-F0CBE2E46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8D07-C087-4909-8031-BB5C5C6CA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A867-153E-4480-83A2-D8F8FACBB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CB81-F8DE-4E57-94D7-D6BABCCAC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799C6-344B-405B-822E-8360F270A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E323-BCF1-4E4D-8847-68AD514F6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F7C5B50-DA1E-4715-B6A2-128B64E8B5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