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90664"/>
        <c:axId val="19336376"/>
      </c:barChart>
      <c:catAx>
        <c:axId val="3509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36376"/>
        <c:crosses val="autoZero"/>
        <c:auto val="1"/>
        <c:lblAlgn val="ctr"/>
        <c:lblOffset val="100"/>
        <c:noMultiLvlLbl val="0"/>
      </c:catAx>
      <c:valAx>
        <c:axId val="19336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9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C89-AF2F-4521-BBCE-83D9045B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04D-A451-4F8F-BC28-DC72AFA2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5AC-E6D7-4067-8C50-7764BFF9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AF1-4C49-4F8E-93EA-AE6E317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103-C63C-4139-9B3F-8847B7B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F8E-CF6A-43FB-AE98-E22D42B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91B-ABF0-4C40-8131-CC87026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62C-B4A9-429B-86D5-9F9574A8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E62-C1F6-4017-B47A-787ADB23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375-01C3-4C8D-AFAB-D663628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713-41F4-49CE-B18C-B8F70D8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5DD-96EF-4634-900B-3AE76C1E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199FF-3880-4879-8710-24C2F6807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