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96080"/>
        <c:axId val="95104207"/>
      </c:barChart>
      <c:catAx>
        <c:axId val="779960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04207"/>
        <c:crosses val="autoZero"/>
        <c:auto val="1"/>
        <c:lblAlgn val="ctr"/>
        <c:lblOffset val="100"/>
        <c:noMultiLvlLbl val="0"/>
      </c:catAx>
      <c:valAx>
        <c:axId val="951042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960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A19-BF78-439D-A38B-0AEA472D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59A3-4077-4049-A1F3-5B225DA5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7CE8-BEE8-49D2-9F2E-A2C38D31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AA92-515C-4F03-9B24-40E4F015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ABD7-591F-479A-ADC4-E42C0E74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752-CE4C-4323-8968-CCEA2570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C47-0B0C-4F4A-B223-BE514F0E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AC99-EA18-4580-A26B-84890EBB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26D4-B54E-4D41-AADE-9F1C2F8A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2C17-98A7-4EBD-9C7D-78563EF1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DE87-EC61-4D9D-A5DA-FB46D139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FEF-F687-4DF4-B6AB-60C373C3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6DCDE-DFC0-491A-A02E-BC0E95CCC7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