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056340"/>
        <c:axId val="46179966"/>
      </c:barChart>
      <c:catAx>
        <c:axId val="140563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179966"/>
        <c:crosses val="autoZero"/>
        <c:auto val="1"/>
        <c:lblAlgn val="ctr"/>
        <c:lblOffset val="100"/>
        <c:noMultiLvlLbl val="0"/>
      </c:catAx>
      <c:valAx>
        <c:axId val="461799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0563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61FA-2106-4300-BC16-0B8262756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E907-38CF-4A6C-B201-6CA4A4362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4CCC-E0DF-4383-A544-71C106E88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8D56-9E5B-4312-A7B4-94D96AB65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A3F6-86F2-4A51-ACD3-10EDE55FE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EF7D-9A87-4EDF-BC7B-FB69DE9F7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721D-C634-4F4C-B6F7-982AAFB94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805B-582D-4AE7-8362-8BFF13050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86DB-46CB-4A49-A924-6F673ED23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81CB-88AA-4646-BF94-6917C0B4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C274-811F-4A60-BBDF-3C2A46DF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0F91-F3B7-4273-AF7E-276FE8CA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BE7771-A155-4E1D-B1CE-14963B4914B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