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16996"/>
        <c:axId val="4844924"/>
      </c:barChart>
      <c:catAx>
        <c:axId val="22816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4924"/>
        <c:crosses val="autoZero"/>
        <c:auto val="1"/>
        <c:lblAlgn val="ctr"/>
        <c:lblOffset val="100"/>
        <c:noMultiLvlLbl val="0"/>
      </c:catAx>
      <c:valAx>
        <c:axId val="4844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16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1B6-4032-4E95-B656-07D70FEC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415-980A-49C5-8004-006F1EBD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28F-6267-4D29-BA99-3BCC8348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87C-DDCF-4CCC-90C2-676FD1EF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B86-680B-4ECC-9863-95BD06AD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D91-A7DE-407B-979B-223FFB99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CE2-5393-44EE-848D-ABD1D830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C1A-4A3A-4ED0-88B4-BC6687D4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DDD-FC74-4F47-9FB3-54767F40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9AD-C998-464B-9569-5A721682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7DB-757C-4088-8BF9-F609E3E0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19B-4DC5-457E-AB1E-96AC41F6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446E7-4F58-4726-8B7C-248990FAD9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