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28320"/>
        <c:axId val="8821585"/>
      </c:barChart>
      <c:catAx>
        <c:axId val="77728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1585"/>
        <c:crosses val="autoZero"/>
        <c:auto val="1"/>
        <c:lblAlgn val="ctr"/>
        <c:lblOffset val="100"/>
        <c:noMultiLvlLbl val="0"/>
      </c:catAx>
      <c:valAx>
        <c:axId val="8821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28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ACE-A84B-4141-B83D-29221AB2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1EB-47E1-4053-A78E-73055F29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887-3F74-4586-833E-3EC37DC9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DBC-9DF9-4092-A6E0-4FC96B50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FC5-1035-420D-BEC6-4ADFB124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9EE-4739-4691-9263-13019D0A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2B9-B2A7-46C5-9C8B-401727BA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9CE-9476-4009-BCE6-2BAA50E6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285-269D-449D-A30C-BC598215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1DF-13CB-43AB-A6B6-49CF02A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1E6-D8D4-4556-BA29-31EB4B6F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751-F5B2-470E-A46B-3F7AF538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B762C-9506-43CE-9D48-63C1C3A86F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