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97826"/>
        <c:axId val="96140274"/>
      </c:barChart>
      <c:catAx>
        <c:axId val="550978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40274"/>
        <c:crosses val="autoZero"/>
        <c:auto val="1"/>
        <c:lblAlgn val="ctr"/>
        <c:lblOffset val="100"/>
        <c:noMultiLvlLbl val="0"/>
      </c:catAx>
      <c:valAx>
        <c:axId val="96140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978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8AD-C7C3-4022-8DC2-E8630C43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C28F-FA8F-4F12-A64A-F2612DBF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80C-68FF-441B-A1C9-46BE536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5FE8-7487-4E9A-B7D7-A032CF04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21F-2C55-4DF8-975B-5A4834E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CEB-7C73-4957-AB5F-877C8D41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4CD-2E48-4B67-98A3-21D5E728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8AB-BA21-49CB-8EC3-1B872EE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0B3-68E3-4ECA-A582-DFC843F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347-9B17-48DB-B36C-895905A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156-BDDE-425F-B3AB-8EB9F4A3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898-E696-47E9-A6B9-0FEF2C06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872BE-B9D6-4397-9F55-3EE0F85CD2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